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92E2-3617-400D-94A9-D2266269E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question asked on either side of the ais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079-AC90-46D7-B72A-A9669C2D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3E1-9FB6-4F74-BBE6-C7996B12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9224-BF7D-4D3D-A0EA-AB406BC6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A42-7160-4EFF-B1FF-9228401A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E3318-808A-45ED-9EC1-EB08E05D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25A62-8113-4CE6-98D4-ADDE9A9D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88FFA-FA81-4CB4-94F8-EAC88AC3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2E7FD-514B-4DD6-A914-EEF7F5F1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BCD35-8A27-4B46-9918-DA4EC8B5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4590D-5608-4272-8A6F-89B04CE6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FE967-6C93-4847-B5D8-1B785E7E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9DB-570E-4D5D-8125-5AC8309E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0B7AF-1C10-4689-A41F-DF2776A5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B6C95-14FB-4D88-8011-D879707D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DB53F-D9E4-484E-82E2-C219026A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CB55C-7B0D-46B6-B222-2CC03521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FBC4F-55A4-4778-A7DC-A1A2B496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6ED-E7BF-4BEC-B2F8-F704C8ED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10B-BC8C-4005-A3A2-A6B47D1F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B06-9744-43BE-8F2E-ADCA937E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9B8-E819-4A30-927A-116F3BD0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5B3-C10F-45E9-A934-59FC49D2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A41-FC27-4A13-9FC2-BDD240A7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F67-BE93-4D9D-B2CE-7E0A4C19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04BA-F7C8-4FB7-8114-5C29C343A9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E24D-709C-4B4A-BB7F-0AE2028A45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jessica_mulligan@hotmail.com" TargetMode="External"/><Relationship Id="rId2" Type="http://schemas.openxmlformats.org/officeDocument/2006/relationships/hyperlink" Target="mailto:psychochild@gmail.co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kotos.net/articles/bth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Emerging Worldwide Busines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Online Games Make Money Today and Tomorrow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ed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an Green and Jessica Mulli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ember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me Histor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004-2007: Free-to-play and Virtual Item Sales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rized by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Kart Ri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Ko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USA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opets, Achaea, Knight On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mainly in China and Korea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nda leads in China; reaction to other developers (Perfect Worl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2 Network, Codemasters in US/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day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day’s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6 Revenue: About $4.5 billion U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s (Estima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ia: 50+ million paying gamers, 50% of reve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: 5 million gamers, 35% of reve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: 2.5 million gamers, 15% of reve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Japan fastest growing revenue sectors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”Online Game Market Forecasts 2007” by DFC Intelligence, May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day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tail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ail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50 initial pric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” month if subscription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a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perks only available with purc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out every 6-12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day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bscription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at Rate Subscri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h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months/6 months/Annual dis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ered subscri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 more per month for more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verQu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emium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day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dvertising Mode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th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based games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unesc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boards in the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trix Online, Anarchy On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stitial 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hadowb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sor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ke Stu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day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tem Sales and Micro-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$1.5b USD of total $4.5b USD online game revenues spent on virtual items and ‘micros’ in 20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est Growing Segment of the Market.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s this and digital distribution will equal subscription revenue by 2012.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share prediction is probably conserv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”Online Game Market Forecasts 2007” by DFC Intelligence, May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day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tem Sales and Micro-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pla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rative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 I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, Even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T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E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day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jor U.S. and European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thly Subscription (with Retail Purcha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W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verQu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ity of Hero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large base of players for highest profi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ly 90% of market revenue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e-to-Play with Premium Up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unescape 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6M players/1M su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Games in Europe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g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also advertising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8% market revenue 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day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re U.S. and European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ail Purc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uild W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ubscription as major selling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 from regular expa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he titles from independent developers and foreign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have virtual item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day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jor Asian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me Time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W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antasy Westward Jou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ly premium offe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-60% of market revenu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ee-to-Play/Item 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erfect Wor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ver US$1.5b ca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games you’ve never heard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about 40% of the market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’s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orrow’s Mode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Different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&amp;A 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morrow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morrow’s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12: $13b USD reven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s (Estima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ia: 75+ million paying gamers, 50% of reve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: 7.5 million gamers, 30% of reve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: 4 million gamers, 25% of reve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and Japan continue to be fastest growing revenue s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morrow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venue 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General Shift to Virtual Item 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ubscription means lower barrier to 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income for niche ti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‘n’ Match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options for different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ombos will be t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morrow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.S. and Europ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ee-To-Play with Item 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lkroad Onl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ee Real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zzle Pi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rise to 50%-plus of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uild W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ill they add item sales to mi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ee-To-Play with Premium Up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at about 8-10% of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thly Subscription with Retail Bu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p to 30-40% of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morrow’s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ame Time C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slip in market revenue sh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5 games may be an exce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ee-to-Play with Item S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be well over 50% of market reve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ild Card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ther Models to 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avi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ells no items, but time sav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ing Time Sinks for $$$ and Conven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mium Upgr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unesca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first mover; likely to continue that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hand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sor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ild Card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Long Tail Eff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iche I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,000-25,000 player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Dev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iche’ Fe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te Boutique Pr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-rate pr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Using Different Model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 the Right Model for Your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s can’t pay premium subscrip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Your Game to Support th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ry to shoehorn it in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 Player Expec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the benefits to the p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 to th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ummar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ition Period: Biz Model is cha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not nearly saturated th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a continues to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and Japan continue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p 5-10 games will still charge premium f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-to-play/virtual item sales: The biz model for the rest of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Q&amp;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confuse you even mo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ontact Info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J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phon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1 (310) 928-1424 (Pacific Time Zo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ssica.mulligan@g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ant Messeng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ype: jessm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N Messenger: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essica_mulligan@hot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R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phon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1 (650) 533-7448 (Pacific Time Zo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1" lang="en-US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psychochild@gmail.c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Are We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Jes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 Years in the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MMOs/Virtual Wor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Author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veloping Online Games: An Insider’s Gu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(ISBN-13: 978-1592730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te “Biting the Hand” Column  1997-2003 (Archived at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.skotos.net/articles/bth.htm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Are We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Years in th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owner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ridian 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itor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usiness &amp; Legal Primer for Game Develop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(ISBN-13: 978-15845049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g at http://www.psychochild.org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me Clarification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About Online Ga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MOs, Web Games and Virtual Worlds that are primari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gam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gam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worl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bbo Hote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ond Lif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et al, are not the focus; some info still appl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me Clarification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morrow” = five years: 20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Major Mark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.S. and Euro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Conven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me Histor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1983-1996: Online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OL, GEnie, CompuSer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-minute charges from 5 cents to 33.3 cents per min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me Histor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1996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: Meridian 59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Leads the Flat Rate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: $9.99/mon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ction to AOL’s flat 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s the trend for UO, EverQuest, whole indust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ter changes to complex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me Histor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1996-2004: West - Subscriptions, East - Time C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9.89-14.95/mo. in the W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me Time Cards vary in China, Korea, et al: ~US$2/ho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3:33:25Z</dcterms:created>
  <dc:creator>Jessica Mulligan</dc:creator>
  <dc:description/>
  <dc:language>en-US</dc:language>
  <cp:lastModifiedBy>Jessica Mulligan</cp:lastModifiedBy>
  <dcterms:modified xsi:type="dcterms:W3CDTF">2007-09-05T12:16:23Z</dcterms:modified>
  <cp:revision>226</cp:revision>
  <dc:subject/>
  <dc:title>I WISH I’D KNOWN</dc:title>
</cp:coreProperties>
</file>